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219-3B17-4E96-90D8-D0F9249E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069-3435-4C98-BDA4-56FAA4FC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D1D-5549-4857-9D69-45F8658C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49B-5420-471A-8905-90C6F13E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85DB-2289-4E63-8B07-3D24A7D8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BB56-DB20-4A31-BF19-0FC6806D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CB50-743E-4C08-B412-4FCD7BC8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9C6-CE4A-4893-8F90-15F20242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1B9C-4172-4978-8F97-2733F2C4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974-9674-4A2C-BDFE-8ED0513E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E5A2-006F-4840-9738-5D8DE0E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D43-A91B-4BFE-8396-5E0034D3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4674-A3FC-4AE0-B92F-12239579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535C-1C0D-43D8-9A5B-7567DB6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6FF3-1CCD-4475-BD67-1FC45909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DE0E-A6E1-404E-827F-AACB0A39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0D8-C0BF-40BE-BDAA-91D174DB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A40-2425-4C62-89EF-CAB5DC2D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C68-B53A-4005-8090-98A23E9F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D88-C2E0-4FFB-B005-442F0E7D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F28-79D9-4578-8AB7-F3CFCC78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ABA-E56D-4A48-B1B3-B42DD1D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F38-12CF-4CFD-BF71-A76036A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AFD-1D40-48D4-A244-0FDAE7E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0738-5253-4DC7-A8AD-2BA8640CFA7D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807F-D696-43BC-A5CE-798F27AD2E1E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er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</a:rPr>
              <a:t>Basic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87692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Auxiliary</a:t>
            </a:r>
            <a:br>
              <a:rPr sz="2400"/>
            </a:b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320040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610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266720" y="4419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0680" y="44575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20040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4343040" y="28191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952520" y="28191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160020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657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200400"/>
            <a:ext cx="1905120" cy="106668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</a:rPr>
              <a:t>Types of In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Keybo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Barcode r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ca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Voice data ent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M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C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Types of Out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onitors (also known as VDUs or screen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Prin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Plot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ther types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The Process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Processing Power determined b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peed of operation of CP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mount of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Number of I/O devices it can hand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ome control functions of CP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ransmission of input data to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Process data held in main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ransmission of data from main memory to output dev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Main Mem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ade up of individual storage units called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by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otal number of bytes is referred to as computer’s memory si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9880" y="311004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= 1,000 bytes (actually 102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= 1,000,000 (1 million) by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= 1,000,000,000 (1 billion) by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= 1,000,000,000,000 (1 trillion) by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124080"/>
            <a:ext cx="2667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1 Kilobyte (K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1 Megabyte (M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1 Gigabyte (G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1 Terabyte (T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RAM and RO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AM – Random Access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tores current programs and da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It is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VOLATILE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lost when switched of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OM – Read-Only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Non-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VOLATILE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Instructions or programs permanently etched onto a chip. For example, 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bootstrap loader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Auxiliary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Hard di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tores operating system, systems and application software, and da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ypical sizes are now 15-20 G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Floppy dis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ypical HD disk has capacity of 1.44 M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ypical capacity of 650-800 M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Zip Dis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apacity 100 and 250Mb disks. Internal or External models availab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9:00:03Z</dcterms:created>
  <dc:creator>Graham R Pugh</dc:creator>
  <dc:description/>
  <dc:language>en-US</dc:language>
  <cp:lastModifiedBy>Graham R Pugh</cp:lastModifiedBy>
  <dcterms:modified xsi:type="dcterms:W3CDTF">2001-02-04T14:13:30Z</dcterms:modified>
  <cp:revision>8</cp:revision>
  <dc:subject/>
  <dc:title>Intro to Systems</dc:title>
</cp:coreProperties>
</file>